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9FD-3664-4A3A-AC34-7B0D9D4F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D5D-11D5-439A-857E-DE028558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C1C-9CF4-4155-A155-56C723DC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4CE-A601-47DB-BFD7-5FEF05AB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4235-00D1-465C-89EF-C17418D5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AAE4-8D82-4E09-B26D-3171F415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8701-B6E1-4CEE-8B13-F35D6DD9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7698-AF24-478F-83F6-585AD738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FFAA-0719-433E-A2AB-AEAE8129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DBFF-A902-4757-A4BF-263156AA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8446-1803-4737-BEA9-C770A81E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55F-03FC-456B-B087-0BF2878D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2B21-C803-4D50-94E8-C800B57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E8C1-020A-4CF5-B56B-628F4536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A265-6F8B-4790-9C6C-4ADF1873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B60B-2247-44C9-95FA-7B1AEA61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B692-17F2-4376-B60F-51CD3EF1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E80-47B5-4324-9095-D25118C6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220-81D2-4B27-867B-AA1B8AC3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850-ED2B-4BA9-9027-5DBFC86E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46F-98E7-43FF-B03D-1D2F488A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9C9-2AC7-48DF-98E9-35538F5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44D-496C-416F-B5DC-64203564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4D4-DAE5-4930-9F6D-C50A408E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EA98-043C-4DD8-ADEC-1185086D4D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75E4-F667-4FCB-91D3-DC32EC1121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arl_bernstein_2007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rkFelt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atergat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s June 17, 1972 and ends with the resignation of the president Aug 9,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ixon wins the election by a landslide – break-in unnecessary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3127" t="9376" r="0" b="6251"/>
          <a:stretch/>
        </p:blipFill>
        <p:spPr>
          <a:xfrm>
            <a:off x="990720" y="1600200"/>
            <a:ext cx="75438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over-Up Unrav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Dean testif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ed Pres. Nixon and the Attorney General John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er Butterfield reveals that conversations in oval office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 refuses to hand over tapes base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utive privil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 protect national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butterfield" descr="Alexander Butterfield"/>
          <p:cNvPicPr/>
          <p:nvPr/>
        </p:nvPicPr>
        <p:blipFill>
          <a:blip r:embed="rId1"/>
          <a:stretch/>
        </p:blipFill>
        <p:spPr>
          <a:xfrm>
            <a:off x="5181480" y="4038480"/>
            <a:ext cx="3638520" cy="2562480"/>
          </a:xfrm>
          <a:prstGeom prst="rect">
            <a:avLst/>
          </a:prstGeom>
          <a:ln w="0">
            <a:noFill/>
          </a:ln>
        </p:spPr>
      </p:pic>
      <p:pic>
        <p:nvPicPr>
          <p:cNvPr id="142" name="john-dean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aturday Night Massacre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’t attorney appointed by president to handle Watergate cases (Oct. ’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Nixon to court to release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 wants him fired; no one wants to fire him so they (2) resign; eventually gets fire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day Night Massac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’s reputation dam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 ’73 V.P. Spiro Agnew resigns for taking bribes as gov. of MD.= Gerald Ford new 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bald C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ros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129360" y="0"/>
            <a:ext cx="360" cy="360"/>
            <a:chOff x="6129360" y="0"/>
            <a:chExt cx="360" cy="360"/>
          </a:xfrm>
        </p:grpSpPr>
        <p:sp>
          <p:nvSpPr>
            <p:cNvPr id="147" name=""/>
            <p:cNvSpPr/>
            <p:nvPr/>
          </p:nvSpPr>
          <p:spPr>
            <a:xfrm>
              <a:off x="6129360" y="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29360" y="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28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a999archibaldcox_2050081722-23125" descr="Archibald Cox."/>
          <p:cNvPicPr/>
          <p:nvPr/>
        </p:nvPicPr>
        <p:blipFill>
          <a:blip r:embed="rId1"/>
          <a:stretch/>
        </p:blipFill>
        <p:spPr>
          <a:xfrm>
            <a:off x="5181480" y="16765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. R. Haldem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right hand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3600" y="0"/>
            <a:ext cx="1760400" cy="2846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H. R. Haldeman"/>
          <p:cNvPicPr/>
          <p:nvPr/>
        </p:nvPicPr>
        <p:blipFill>
          <a:blip r:embed="rId2"/>
          <a:stretch/>
        </p:blipFill>
        <p:spPr>
          <a:xfrm>
            <a:off x="4419720" y="2362320"/>
            <a:ext cx="298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eachment Procee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s finally turned over and show evidence that Nixon was involve in cov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Judiciary Committee vot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harge with a crime-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 resigns before imp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Ford new president Aug 9,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fordportrait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988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esident Nixon’s Last Da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File:Nixon-depart.png"/>
          <p:cNvPicPr/>
          <p:nvPr/>
        </p:nvPicPr>
        <p:blipFill>
          <a:blip r:embed="rId1"/>
          <a:stretch/>
        </p:blipFill>
        <p:spPr>
          <a:xfrm>
            <a:off x="2438280" y="1600200"/>
            <a:ext cx="47023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tergate Impa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d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xon – cannot ever be prosecuted for cr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s distrust of government and politicians continue to de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y our judicial system works because no one is above the law, to include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washingtonpost.com/wp-dyn/content/article/2007/06/13/AR2007061301867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Woodward and Bernstein"/>
          <p:cNvPicPr/>
          <p:nvPr/>
        </p:nvPicPr>
        <p:blipFill>
          <a:blip r:embed="rId1"/>
          <a:stretch/>
        </p:blipFill>
        <p:spPr>
          <a:xfrm>
            <a:off x="1295280" y="1752480"/>
            <a:ext cx="6858000" cy="4872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33"/>
                </a:solidFill>
                <a:latin typeface="Times New Roman"/>
              </a:rPr>
              <a:t>Washington Post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reporters who followed the court case of the burglars and realized there may be a White House connection when one of the burglars reported being a retired CIA ag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rl Bernste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600200"/>
            <a:ext cx="3487680" cy="4495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2957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ob Woodw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76800" cy="4776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Bob Woodward on &quot;Meet The Press&quot;"/>
          <p:cNvPicPr/>
          <p:nvPr/>
        </p:nvPicPr>
        <p:blipFill>
          <a:blip r:embed="rId2"/>
          <a:stretch/>
        </p:blipFill>
        <p:spPr>
          <a:xfrm>
            <a:off x="4997520" y="1676520"/>
            <a:ext cx="34430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n Bradle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s as vice president to the Washington Post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revealing the Pentagon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703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rstein, Bradlee, &amp; Woodw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Carl Bernstein, Ben Bradlee, Bob Woodward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’s paranoia may have contributed to his participation in the burglary and cov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people were against him = “enemies list”- those considered threat to his presi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50" t="6251" r="0" b="6251"/>
          <a:stretch/>
        </p:blipFill>
        <p:spPr>
          <a:xfrm>
            <a:off x="4724280" y="2095560"/>
            <a:ext cx="44197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over-Up Begi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cCord, one of the burglars was an ex-CIA agent and member of C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glars paid from CRP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 orders cover-up; false testimony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Felt giving info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82920" y="2664000"/>
            <a:ext cx="4179960" cy="1509480"/>
            <a:chOff x="2482920" y="2664000"/>
            <a:chExt cx="4179960" cy="1509480"/>
          </a:xfrm>
        </p:grpSpPr>
        <p:sp>
          <p:nvSpPr>
            <p:cNvPr id="126" name=""/>
            <p:cNvSpPr/>
            <p:nvPr/>
          </p:nvSpPr>
          <p:spPr>
            <a:xfrm>
              <a:off x="2482920" y="2664000"/>
              <a:ext cx="4179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82920" y="2664000"/>
              <a:ext cx="3098880" cy="1509480"/>
              <a:chOff x="2482920" y="2664000"/>
              <a:chExt cx="3098880" cy="150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2482920" y="2664000"/>
                <a:ext cx="3098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82920" y="2664000"/>
                <a:ext cx="1525680" cy="15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jamesMcCord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2395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illiam Mark Fel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d “deep throat” by Bernstein and Wood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I Agent Whistle-bl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al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: Dec.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762120"/>
            <a:ext cx="2381400" cy="2638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Mark Felt - Deep Throat"/>
          <p:cNvPicPr/>
          <p:nvPr/>
        </p:nvPicPr>
        <p:blipFill>
          <a:blip r:embed="rId3"/>
          <a:stretch/>
        </p:blipFill>
        <p:spPr>
          <a:xfrm>
            <a:off x="3962520" y="3276720"/>
            <a:ext cx="2655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0-05-20T02:21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